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15C-FDBB-4543-95C7-AAF46A74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25A-EE86-4167-8F87-71007913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A84-E197-4985-A5AF-9156A43E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A0A-C671-4FB3-B90D-0641B37B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A0F0-1E09-4C64-8981-2B59718C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85A8-19AB-4DCA-B965-19D468E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3ED2-F202-4E60-A659-72A2E894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1676-BD27-462D-88FF-C3C39353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3977-5A68-4B77-BD1A-326B4C1C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8F23-B223-4B9B-BD1F-5891286F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9BAB-B873-4E60-92F9-20AE1C8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322-EE75-4EAD-A397-10A3F5D0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9CD7-C4EB-46F9-BA0F-E6F3398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F9D8-0CFA-49AB-BA22-776F46CB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970C-943D-4A2C-A6BE-DAF21FE5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4088-4193-4A46-B402-FDB7BCF5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0CE-814C-4125-91FF-C5155B74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E98-41AB-4D91-A266-7640E868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CFB-C51F-465F-836E-41DF01A0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DBC-EE38-4EC8-9F45-DA4199F7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151-F701-40B8-8218-CAEBED85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A83-9B8E-4A10-AB11-32871125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F08-3A49-4E9E-9CC6-8B0EA69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7CB-B6E9-4318-8937-8633898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E7FD-BC9C-4C01-A93C-551001CF3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" name=""/>
          <p:cNvGrpSpPr/>
          <p:nvPr/>
        </p:nvGrpSpPr>
        <p:grpSpPr>
          <a:xfrm>
            <a:off x="5970600" y="25920"/>
            <a:ext cx="3573360" cy="3773160"/>
            <a:chOff x="5970600" y="25920"/>
            <a:chExt cx="3573360" cy="3773160"/>
          </a:xfrm>
        </p:grpSpPr>
        <p:grpSp>
          <p:nvGrpSpPr>
            <p:cNvPr id="38" name=""/>
            <p:cNvGrpSpPr/>
            <p:nvPr/>
          </p:nvGrpSpPr>
          <p:grpSpPr>
            <a:xfrm>
              <a:off x="6564960" y="470160"/>
              <a:ext cx="1807560" cy="1594440"/>
              <a:chOff x="6564960" y="470160"/>
              <a:chExt cx="1807560" cy="1594440"/>
            </a:xfrm>
          </p:grpSpPr>
          <p:sp>
            <p:nvSpPr>
              <p:cNvPr id="39" name=""/>
              <p:cNvSpPr/>
              <p:nvPr/>
            </p:nvSpPr>
            <p:spPr>
              <a:xfrm rot="20247000">
                <a:off x="6719400" y="714960"/>
                <a:ext cx="1498680" cy="1104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0247000">
                <a:off x="7276680" y="1132920"/>
                <a:ext cx="297000" cy="208440"/>
              </a:xfrm>
              <a:prstGeom prst="ellipse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6160320" y="196200"/>
              <a:ext cx="2819160" cy="2517480"/>
              <a:chOff x="6160320" y="196200"/>
              <a:chExt cx="2819160" cy="2517480"/>
            </a:xfrm>
          </p:grpSpPr>
          <p:grpSp>
            <p:nvGrpSpPr>
              <p:cNvPr id="42" name=""/>
              <p:cNvGrpSpPr/>
              <p:nvPr/>
            </p:nvGrpSpPr>
            <p:grpSpPr>
              <a:xfrm>
                <a:off x="7556040" y="1083600"/>
                <a:ext cx="1308960" cy="757800"/>
                <a:chOff x="7556040" y="1083600"/>
                <a:chExt cx="1308960" cy="757800"/>
              </a:xfrm>
            </p:grpSpPr>
            <p:sp>
              <p:nvSpPr>
                <p:cNvPr id="43" name=""/>
                <p:cNvSpPr/>
                <p:nvPr/>
              </p:nvSpPr>
              <p:spPr>
                <a:xfrm rot="1358400">
                  <a:off x="7552440" y="1247400"/>
                  <a:ext cx="884160" cy="15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358400">
                  <a:off x="8360280" y="1508040"/>
                  <a:ext cx="474480" cy="25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7550640" y="1017720"/>
                <a:ext cx="1428840" cy="587160"/>
                <a:chOff x="7550640" y="1017720"/>
                <a:chExt cx="1428840" cy="587160"/>
              </a:xfrm>
            </p:grpSpPr>
            <p:sp>
              <p:nvSpPr>
                <p:cNvPr id="46" name=""/>
                <p:cNvSpPr/>
                <p:nvPr/>
              </p:nvSpPr>
              <p:spPr>
                <a:xfrm rot="750600">
                  <a:off x="7558560" y="1116360"/>
                  <a:ext cx="931320" cy="177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750600">
                  <a:off x="8455320" y="1274760"/>
                  <a:ext cx="499680" cy="279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7530480" y="999360"/>
                <a:ext cx="1370160" cy="339840"/>
                <a:chOff x="7530480" y="999360"/>
                <a:chExt cx="1370160" cy="339840"/>
              </a:xfrm>
            </p:grpSpPr>
            <p:sp>
              <p:nvSpPr>
                <p:cNvPr id="49" name=""/>
                <p:cNvSpPr/>
                <p:nvPr/>
              </p:nvSpPr>
              <p:spPr>
                <a:xfrm rot="229800">
                  <a:off x="7534440" y="1028880"/>
                  <a:ext cx="890280" cy="155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229800">
                  <a:off x="8414640" y="1079280"/>
                  <a:ext cx="478080" cy="24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7508160" y="871560"/>
                <a:ext cx="1334160" cy="306000"/>
                <a:chOff x="7508160" y="871560"/>
                <a:chExt cx="1334160" cy="306000"/>
              </a:xfrm>
            </p:grpSpPr>
            <p:sp>
              <p:nvSpPr>
                <p:cNvPr id="52" name=""/>
                <p:cNvSpPr/>
                <p:nvPr/>
              </p:nvSpPr>
              <p:spPr>
                <a:xfrm rot="21327000">
                  <a:off x="7513560" y="935640"/>
                  <a:ext cx="860040" cy="1720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1327000">
                  <a:off x="8370360" y="889200"/>
                  <a:ext cx="461880" cy="270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478640" y="636120"/>
                <a:ext cx="1239120" cy="459720"/>
                <a:chOff x="7478640" y="636120"/>
                <a:chExt cx="1239120" cy="459720"/>
              </a:xfrm>
            </p:grpSpPr>
            <p:sp>
              <p:nvSpPr>
                <p:cNvPr id="55" name=""/>
                <p:cNvSpPr/>
                <p:nvPr/>
              </p:nvSpPr>
              <p:spPr>
                <a:xfrm rot="20710800">
                  <a:off x="7485840" y="836640"/>
                  <a:ext cx="792720" cy="1602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20710800">
                  <a:off x="8266680" y="686160"/>
                  <a:ext cx="425880" cy="25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7475760" y="496440"/>
                <a:ext cx="1079280" cy="546120"/>
                <a:chOff x="7475760" y="496440"/>
                <a:chExt cx="1079280" cy="546120"/>
              </a:xfrm>
            </p:grpSpPr>
            <p:sp>
              <p:nvSpPr>
                <p:cNvPr id="58" name=""/>
                <p:cNvSpPr/>
                <p:nvPr/>
              </p:nvSpPr>
              <p:spPr>
                <a:xfrm rot="20162400">
                  <a:off x="7467120" y="789480"/>
                  <a:ext cx="720360" cy="1116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20162400">
                  <a:off x="8149320" y="567000"/>
                  <a:ext cx="386640" cy="174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7444800" y="370440"/>
                <a:ext cx="888840" cy="654120"/>
                <a:chOff x="7444800" y="370440"/>
                <a:chExt cx="888840" cy="654120"/>
              </a:xfrm>
            </p:grpSpPr>
            <p:sp>
              <p:nvSpPr>
                <p:cNvPr id="61" name=""/>
                <p:cNvSpPr/>
                <p:nvPr/>
              </p:nvSpPr>
              <p:spPr>
                <a:xfrm rot="19444200">
                  <a:off x="7416720" y="739440"/>
                  <a:ext cx="632880" cy="109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9444200">
                  <a:off x="7975440" y="453600"/>
                  <a:ext cx="339840" cy="172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6709320" y="1317960"/>
                <a:ext cx="656280" cy="1349640"/>
                <a:chOff x="6709320" y="1317960"/>
                <a:chExt cx="656280" cy="1349640"/>
              </a:xfrm>
            </p:grpSpPr>
            <p:sp>
              <p:nvSpPr>
                <p:cNvPr id="64" name=""/>
                <p:cNvSpPr/>
                <p:nvPr/>
              </p:nvSpPr>
              <p:spPr>
                <a:xfrm flipH="1" rot="17535600">
                  <a:off x="6680880" y="1677240"/>
                  <a:ext cx="884520" cy="1602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rot="17535600">
                  <a:off x="6677640" y="2274840"/>
                  <a:ext cx="474480" cy="25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422040" y="1284480"/>
                <a:ext cx="909000" cy="1357200"/>
                <a:chOff x="6422040" y="1284480"/>
                <a:chExt cx="909000" cy="1357200"/>
              </a:xfrm>
            </p:grpSpPr>
            <p:sp>
              <p:nvSpPr>
                <p:cNvPr id="67" name=""/>
                <p:cNvSpPr/>
                <p:nvPr/>
              </p:nvSpPr>
              <p:spPr>
                <a:xfrm flipH="1" rot="18143400">
                  <a:off x="6540120" y="1636200"/>
                  <a:ext cx="931320" cy="177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 rot="18143400">
                  <a:off x="6423120" y="2215800"/>
                  <a:ext cx="500040" cy="279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6310440" y="1238760"/>
                <a:ext cx="1009800" cy="1191600"/>
                <a:chOff x="6310440" y="1238760"/>
                <a:chExt cx="1009800" cy="1191600"/>
              </a:xfrm>
            </p:grpSpPr>
            <p:sp>
              <p:nvSpPr>
                <p:cNvPr id="70" name=""/>
                <p:cNvSpPr/>
                <p:nvPr/>
              </p:nvSpPr>
              <p:spPr>
                <a:xfrm flipH="1" rot="18664200">
                  <a:off x="6523560" y="1547640"/>
                  <a:ext cx="890640" cy="155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 rot="18664200">
                  <a:off x="6320520" y="2048040"/>
                  <a:ext cx="478080" cy="24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207480" y="1194840"/>
                <a:ext cx="1108800" cy="1064880"/>
                <a:chOff x="6207480" y="1194840"/>
                <a:chExt cx="1108800" cy="1064880"/>
              </a:xfrm>
            </p:grpSpPr>
            <p:sp>
              <p:nvSpPr>
                <p:cNvPr id="73" name=""/>
                <p:cNvSpPr/>
                <p:nvPr/>
              </p:nvSpPr>
              <p:spPr>
                <a:xfrm flipH="1" rot="19167000">
                  <a:off x="6503040" y="1453680"/>
                  <a:ext cx="860400" cy="171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 rot="19167000">
                  <a:off x="6239520" y="1872360"/>
                  <a:ext cx="461880" cy="269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160320" y="1154520"/>
                <a:ext cx="1125000" cy="831600"/>
                <a:chOff x="6160320" y="1154520"/>
                <a:chExt cx="1125000" cy="831600"/>
              </a:xfrm>
            </p:grpSpPr>
            <p:sp>
              <p:nvSpPr>
                <p:cNvPr id="76" name=""/>
                <p:cNvSpPr/>
                <p:nvPr/>
              </p:nvSpPr>
              <p:spPr>
                <a:xfrm flipH="1" rot="19783200">
                  <a:off x="6506640" y="1343160"/>
                  <a:ext cx="792360" cy="159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 rot="19783200">
                  <a:off x="6193800" y="1645920"/>
                  <a:ext cx="425520" cy="249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179040" y="1150560"/>
                <a:ext cx="1067760" cy="563760"/>
                <a:chOff x="6179040" y="1150560"/>
                <a:chExt cx="1067760" cy="563760"/>
              </a:xfrm>
            </p:grpSpPr>
            <p:sp>
              <p:nvSpPr>
                <p:cNvPr id="79" name=""/>
                <p:cNvSpPr/>
                <p:nvPr/>
              </p:nvSpPr>
              <p:spPr>
                <a:xfrm flipH="1" rot="20331600">
                  <a:off x="6530400" y="1276560"/>
                  <a:ext cx="720360" cy="111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 rot="20331600">
                  <a:off x="6197400" y="1475280"/>
                  <a:ext cx="387000" cy="174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268680" y="1125000"/>
                <a:ext cx="973440" cy="329760"/>
                <a:chOff x="6268680" y="1125000"/>
                <a:chExt cx="973440" cy="329760"/>
              </a:xfrm>
            </p:grpSpPr>
            <p:sp>
              <p:nvSpPr>
                <p:cNvPr id="82" name=""/>
                <p:cNvSpPr/>
                <p:nvPr/>
              </p:nvSpPr>
              <p:spPr>
                <a:xfrm flipH="1" rot="21049800">
                  <a:off x="6604200" y="1174680"/>
                  <a:ext cx="632880" cy="109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 rot="21049800">
                  <a:off x="6280200" y="1255680"/>
                  <a:ext cx="339480" cy="173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293160" y="1119240"/>
                <a:ext cx="970920" cy="198360"/>
                <a:chOff x="6293160" y="1119240"/>
                <a:chExt cx="970920" cy="198360"/>
              </a:xfrm>
            </p:grpSpPr>
            <p:sp>
              <p:nvSpPr>
                <p:cNvPr id="85" name=""/>
                <p:cNvSpPr/>
                <p:nvPr/>
              </p:nvSpPr>
              <p:spPr>
                <a:xfrm flipH="1" rot="21525000">
                  <a:off x="6630480" y="1126080"/>
                  <a:ext cx="632160" cy="110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 rot="21525000">
                  <a:off x="6294600" y="1139760"/>
                  <a:ext cx="339840" cy="173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329880" y="932760"/>
                <a:ext cx="984240" cy="293400"/>
                <a:chOff x="6329880" y="932760"/>
                <a:chExt cx="984240" cy="293400"/>
              </a:xfrm>
            </p:grpSpPr>
            <p:sp>
              <p:nvSpPr>
                <p:cNvPr id="88" name=""/>
                <p:cNvSpPr/>
                <p:nvPr/>
              </p:nvSpPr>
              <p:spPr>
                <a:xfrm flipH="1" rot="675600">
                  <a:off x="6675480" y="1055520"/>
                  <a:ext cx="633600" cy="109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 rot="675600">
                  <a:off x="6343200" y="964080"/>
                  <a:ext cx="339840" cy="172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365880" y="726840"/>
                <a:ext cx="977040" cy="462600"/>
                <a:chOff x="6365880" y="726840"/>
                <a:chExt cx="977040" cy="462600"/>
              </a:xfrm>
            </p:grpSpPr>
            <p:sp>
              <p:nvSpPr>
                <p:cNvPr id="91" name=""/>
                <p:cNvSpPr/>
                <p:nvPr/>
              </p:nvSpPr>
              <p:spPr>
                <a:xfrm flipH="1" rot="1311000">
                  <a:off x="6703560" y="964440"/>
                  <a:ext cx="641880" cy="109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rot="1311000">
                  <a:off x="6385320" y="784800"/>
                  <a:ext cx="345240" cy="172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563880" y="585000"/>
                <a:ext cx="804600" cy="583200"/>
                <a:chOff x="6563880" y="585000"/>
                <a:chExt cx="804600" cy="583200"/>
              </a:xfrm>
            </p:grpSpPr>
            <p:sp>
              <p:nvSpPr>
                <p:cNvPr id="94" name=""/>
                <p:cNvSpPr/>
                <p:nvPr/>
              </p:nvSpPr>
              <p:spPr>
                <a:xfrm flipH="1" rot="2120400">
                  <a:off x="6823800" y="905040"/>
                  <a:ext cx="564480" cy="109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 rot="2120400">
                  <a:off x="6585480" y="656640"/>
                  <a:ext cx="303120" cy="173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699960" y="477000"/>
                <a:ext cx="701640" cy="669240"/>
                <a:chOff x="6699960" y="477000"/>
                <a:chExt cx="701640" cy="669240"/>
              </a:xfrm>
            </p:grpSpPr>
            <p:sp>
              <p:nvSpPr>
                <p:cNvPr id="97" name=""/>
                <p:cNvSpPr/>
                <p:nvPr/>
              </p:nvSpPr>
              <p:spPr>
                <a:xfrm flipH="1" rot="2773800">
                  <a:off x="6901560" y="856440"/>
                  <a:ext cx="543960" cy="110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2773800">
                  <a:off x="6717240" y="555840"/>
                  <a:ext cx="291960" cy="172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394040" y="271440"/>
                <a:ext cx="813600" cy="756000"/>
                <a:chOff x="7394040" y="271440"/>
                <a:chExt cx="813600" cy="756000"/>
              </a:xfrm>
            </p:grpSpPr>
            <p:sp>
              <p:nvSpPr>
                <p:cNvPr id="100" name=""/>
                <p:cNvSpPr/>
                <p:nvPr/>
              </p:nvSpPr>
              <p:spPr>
                <a:xfrm rot="18921000">
                  <a:off x="7341480" y="710640"/>
                  <a:ext cx="632160" cy="110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18921000">
                  <a:off x="7855920" y="365760"/>
                  <a:ext cx="339480" cy="173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348320" y="196200"/>
                <a:ext cx="706680" cy="851760"/>
                <a:chOff x="7348320" y="196200"/>
                <a:chExt cx="706680" cy="851760"/>
              </a:xfrm>
            </p:grpSpPr>
            <p:sp>
              <p:nvSpPr>
                <p:cNvPr id="103" name=""/>
                <p:cNvSpPr/>
                <p:nvPr/>
              </p:nvSpPr>
              <p:spPr>
                <a:xfrm rot="18325800">
                  <a:off x="7260120" y="702360"/>
                  <a:ext cx="633240" cy="110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18325800">
                  <a:off x="7715520" y="297720"/>
                  <a:ext cx="339840" cy="173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 rot="3226200">
                <a:off x="6987600" y="853200"/>
                <a:ext cx="526680" cy="7416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66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3226200">
                <a:off x="6867360" y="537120"/>
                <a:ext cx="282240" cy="11772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33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316640" y="263880"/>
                <a:ext cx="196920" cy="837360"/>
                <a:chOff x="7316640" y="263880"/>
                <a:chExt cx="196920" cy="837360"/>
              </a:xfrm>
            </p:grpSpPr>
            <p:sp>
              <p:nvSpPr>
                <p:cNvPr id="108" name=""/>
                <p:cNvSpPr/>
                <p:nvPr/>
              </p:nvSpPr>
              <p:spPr>
                <a:xfrm rot="16389000">
                  <a:off x="7106040" y="779400"/>
                  <a:ext cx="545040" cy="94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16389000">
                  <a:off x="7284960" y="339480"/>
                  <a:ext cx="292320" cy="1483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7295760" y="208800"/>
                <a:ext cx="532800" cy="893520"/>
                <a:chOff x="7295760" y="208800"/>
                <a:chExt cx="532800" cy="893520"/>
              </a:xfrm>
            </p:grpSpPr>
            <p:sp>
              <p:nvSpPr>
                <p:cNvPr id="111" name=""/>
                <p:cNvSpPr/>
                <p:nvPr/>
              </p:nvSpPr>
              <p:spPr>
                <a:xfrm rot="17469600">
                  <a:off x="7170840" y="731520"/>
                  <a:ext cx="592560" cy="1382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7469600">
                  <a:off x="7511400" y="287640"/>
                  <a:ext cx="317880" cy="216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173720" y="336600"/>
                <a:ext cx="225360" cy="743040"/>
                <a:chOff x="7173720" y="336600"/>
                <a:chExt cx="225360" cy="743040"/>
              </a:xfrm>
            </p:grpSpPr>
            <p:sp>
              <p:nvSpPr>
                <p:cNvPr id="114" name=""/>
                <p:cNvSpPr/>
                <p:nvPr/>
              </p:nvSpPr>
              <p:spPr>
                <a:xfrm rot="15343200">
                  <a:off x="7072920" y="815040"/>
                  <a:ext cx="488880" cy="43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5343200">
                  <a:off x="7108200" y="437760"/>
                  <a:ext cx="262440" cy="691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6931440" y="1338120"/>
                <a:ext cx="456120" cy="1375560"/>
                <a:chOff x="6931440" y="1338120"/>
                <a:chExt cx="456120" cy="1375560"/>
              </a:xfrm>
            </p:grpSpPr>
            <p:sp>
              <p:nvSpPr>
                <p:cNvPr id="117" name=""/>
                <p:cNvSpPr/>
                <p:nvPr/>
              </p:nvSpPr>
              <p:spPr>
                <a:xfrm flipH="1" rot="16983000">
                  <a:off x="6767640" y="1706400"/>
                  <a:ext cx="883800" cy="15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rot="16983000">
                  <a:off x="6869880" y="2328840"/>
                  <a:ext cx="474120" cy="250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240680" y="1387440"/>
                <a:ext cx="260280" cy="1244160"/>
                <a:chOff x="7240680" y="1387440"/>
                <a:chExt cx="260280" cy="12441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 rot="16189800">
                  <a:off x="6912360" y="1716480"/>
                  <a:ext cx="818280" cy="15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rot="16189800">
                  <a:off x="7155360" y="2286360"/>
                  <a:ext cx="438840" cy="250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7297200" y="1359720"/>
                <a:ext cx="465840" cy="1198080"/>
                <a:chOff x="7297200" y="1359720"/>
                <a:chExt cx="465840" cy="1198080"/>
              </a:xfrm>
            </p:grpSpPr>
            <p:sp>
              <p:nvSpPr>
                <p:cNvPr id="123" name=""/>
                <p:cNvSpPr/>
                <p:nvPr/>
              </p:nvSpPr>
              <p:spPr>
                <a:xfrm flipH="1" rot="15517800">
                  <a:off x="7052400" y="1686600"/>
                  <a:ext cx="785160" cy="144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rot="15517800">
                  <a:off x="7399800" y="2215800"/>
                  <a:ext cx="421200" cy="226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7543440" y="1153800"/>
                <a:ext cx="1251360" cy="896040"/>
                <a:chOff x="7543440" y="1153800"/>
                <a:chExt cx="1251360" cy="896040"/>
              </a:xfrm>
            </p:grpSpPr>
            <p:sp>
              <p:nvSpPr>
                <p:cNvPr id="126" name=""/>
                <p:cNvSpPr/>
                <p:nvPr/>
              </p:nvSpPr>
              <p:spPr>
                <a:xfrm rot="1791000">
                  <a:off x="7524360" y="1362960"/>
                  <a:ext cx="884520" cy="1602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791000">
                  <a:off x="8289000" y="1696680"/>
                  <a:ext cx="474480" cy="251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539120" y="1197720"/>
                <a:ext cx="1090440" cy="1018800"/>
                <a:chOff x="7539120" y="1197720"/>
                <a:chExt cx="1090440" cy="1018800"/>
              </a:xfrm>
            </p:grpSpPr>
            <p:sp>
              <p:nvSpPr>
                <p:cNvPr id="129" name=""/>
                <p:cNvSpPr/>
                <p:nvPr/>
              </p:nvSpPr>
              <p:spPr>
                <a:xfrm rot="2392200">
                  <a:off x="7489800" y="1450800"/>
                  <a:ext cx="846360" cy="1537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2392200">
                  <a:off x="8150760" y="1857600"/>
                  <a:ext cx="453960" cy="2412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518960" y="1261080"/>
                <a:ext cx="907560" cy="1069560"/>
                <a:chOff x="7518960" y="1261080"/>
                <a:chExt cx="907560" cy="1069560"/>
              </a:xfrm>
            </p:grpSpPr>
            <p:sp>
              <p:nvSpPr>
                <p:cNvPr id="132" name=""/>
                <p:cNvSpPr/>
                <p:nvPr/>
              </p:nvSpPr>
              <p:spPr>
                <a:xfrm rot="2933400">
                  <a:off x="7425720" y="1548720"/>
                  <a:ext cx="821160" cy="1263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933400">
                  <a:off x="7986600" y="2000160"/>
                  <a:ext cx="440280" cy="19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09600" y="1317600"/>
                <a:ext cx="693000" cy="1079280"/>
                <a:chOff x="7509600" y="1317600"/>
                <a:chExt cx="693000" cy="1079280"/>
              </a:xfrm>
            </p:grpSpPr>
            <p:sp>
              <p:nvSpPr>
                <p:cNvPr id="135" name=""/>
                <p:cNvSpPr/>
                <p:nvPr/>
              </p:nvSpPr>
              <p:spPr>
                <a:xfrm rot="3545400">
                  <a:off x="7379640" y="1610640"/>
                  <a:ext cx="754920" cy="126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3545400">
                  <a:off x="7810920" y="2072880"/>
                  <a:ext cx="405360" cy="198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461000" y="1375560"/>
                <a:ext cx="406800" cy="1127160"/>
                <a:chOff x="7461000" y="1375560"/>
                <a:chExt cx="406800" cy="1127160"/>
              </a:xfrm>
            </p:grpSpPr>
            <p:sp>
              <p:nvSpPr>
                <p:cNvPr id="138" name=""/>
                <p:cNvSpPr/>
                <p:nvPr/>
              </p:nvSpPr>
              <p:spPr>
                <a:xfrm rot="4402200">
                  <a:off x="7243920" y="1694160"/>
                  <a:ext cx="737640" cy="96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4402200">
                  <a:off x="7540560" y="2215800"/>
                  <a:ext cx="395640" cy="1512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"/>
            <p:cNvSpPr/>
            <p:nvPr/>
          </p:nvSpPr>
          <p:spPr>
            <a:xfrm flipH="1" rot="20247000">
              <a:off x="7296480" y="1607040"/>
              <a:ext cx="24984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20247000">
              <a:off x="6994080" y="1062360"/>
              <a:ext cx="2179800" cy="236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34" y="352"/>
                  </a:moveTo>
                  <a:arcTo wR="10800" hR="10800" stAng="-4520282" swAng="4632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34" y="352"/>
                  </a:moveTo>
                  <a:arcTo wR="10800" hR="10800" stAng="-4520282" swAng="4632450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20247000">
              <a:off x="7489080" y="242280"/>
              <a:ext cx="1549080" cy="20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2" y="16026"/>
                  </a:moveTo>
                  <a:arcTo wR="10800" hR="10800" stAng="1736257" swAng="7000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2" y="16026"/>
                  </a:moveTo>
                  <a:arcTo wR="10800" hR="10800" stAng="1736257" swAng="7000867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20247000">
              <a:off x="7084080" y="1114560"/>
              <a:ext cx="9507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30" y="643"/>
                  </a:moveTo>
                  <a:arcTo wR="10800" hR="10800" stAng="-6591856" swAng="670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30" y="643"/>
                  </a:moveTo>
                  <a:arcTo wR="10800" hR="10800" stAng="-6591856" swAng="6704025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20247000">
              <a:off x="6671160" y="1246680"/>
              <a:ext cx="1466640" cy="236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4" y="953"/>
                  </a:moveTo>
                  <a:arcTo wR="10800" hR="10800" stAng="-6855230" swAng="6967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4" y="953"/>
                  </a:moveTo>
                  <a:arcTo wR="10800" hR="10800" stAng="-6855230" swAng="6967398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rot="20247000">
              <a:off x="6499080" y="1064880"/>
              <a:ext cx="15285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3" y="2121"/>
                  </a:moveTo>
                  <a:arcTo wR="10800" hR="10800" stAng="-7591271" swAng="770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3" y="2121"/>
                  </a:moveTo>
                  <a:arcTo wR="10800" hR="10800" stAng="-7591271" swAng="7703439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247000">
              <a:off x="7818480" y="969480"/>
              <a:ext cx="24120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247000">
              <a:off x="7777440" y="898560"/>
              <a:ext cx="6393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247000">
              <a:off x="7700040" y="702360"/>
              <a:ext cx="907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247000">
              <a:off x="7995240" y="1457640"/>
              <a:ext cx="24840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18307800">
              <a:off x="7480080" y="1392480"/>
              <a:ext cx="226080" cy="42912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20247000">
              <a:off x="6365160" y="92304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1"/>
                  </a:moveTo>
                  <a:arcTo wR="10800" hR="10800" stAng="-8090128" swAng="8202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1"/>
                  </a:moveTo>
                  <a:arcTo wR="10800" hR="10800" stAng="-8090128" swAng="8202296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20247000">
              <a:off x="6397200" y="682560"/>
              <a:ext cx="1284840" cy="236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5" y="5008"/>
                  </a:moveTo>
                  <a:arcTo wR="10800" hR="10800" stAng="-8854059" swAng="5805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5" y="5008"/>
                  </a:moveTo>
                  <a:arcTo wR="10800" hR="10800" stAng="-8854059" swAng="5805659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47000">
              <a:off x="7673400" y="844560"/>
              <a:ext cx="542160" cy="23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563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5630217"/>
                </a:path>
              </a:pathLst>
            </a:custGeom>
            <a:noFill/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20247000">
              <a:off x="6628320" y="1890000"/>
              <a:ext cx="55620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20247000">
              <a:off x="6561000" y="1063800"/>
              <a:ext cx="357120" cy="7822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20247000">
              <a:off x="6856920" y="717840"/>
              <a:ext cx="21456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247000">
              <a:off x="8448120" y="1019520"/>
              <a:ext cx="516960" cy="821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247000">
              <a:off x="7978320" y="698400"/>
              <a:ext cx="778680" cy="5482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247000">
              <a:off x="7834680" y="227160"/>
              <a:ext cx="340200" cy="73512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8900000">
              <a:off x="7704720" y="954000"/>
              <a:ext cx="227520" cy="430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21594000">
              <a:off x="6952320" y="1253880"/>
              <a:ext cx="226440" cy="430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99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201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A89C-E1AB-4FB6-905E-34F518CE6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-14400" y="202320"/>
            <a:ext cx="2999520" cy="2054520"/>
            <a:chOff x="-14400" y="202320"/>
            <a:chExt cx="2999520" cy="2054520"/>
          </a:xfrm>
        </p:grpSpPr>
        <p:grpSp>
          <p:nvGrpSpPr>
            <p:cNvPr id="235" name=""/>
            <p:cNvGrpSpPr/>
            <p:nvPr/>
          </p:nvGrpSpPr>
          <p:grpSpPr>
            <a:xfrm>
              <a:off x="591840" y="397800"/>
              <a:ext cx="400320" cy="182880"/>
              <a:chOff x="591840" y="397800"/>
              <a:chExt cx="400320" cy="182880"/>
            </a:xfrm>
          </p:grpSpPr>
          <p:sp>
            <p:nvSpPr>
              <p:cNvPr id="236" name=""/>
              <p:cNvSpPr/>
              <p:nvPr/>
            </p:nvSpPr>
            <p:spPr>
              <a:xfrm>
                <a:off x="591840" y="397800"/>
                <a:ext cx="400320" cy="182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5480" y="477720"/>
                <a:ext cx="96480" cy="3420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-14400" y="202320"/>
              <a:ext cx="2999520" cy="1998720"/>
              <a:chOff x="-14400" y="202320"/>
              <a:chExt cx="2999520" cy="19987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-14400" y="202320"/>
                <a:ext cx="2883600" cy="1431000"/>
                <a:chOff x="-14400" y="202320"/>
                <a:chExt cx="2883600" cy="143100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98760" y="478080"/>
                  <a:ext cx="1523520" cy="683640"/>
                  <a:chOff x="698760" y="478080"/>
                  <a:chExt cx="1523520" cy="6836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698760" y="478080"/>
                    <a:ext cx="1523520" cy="68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3333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1280520" y="728280"/>
                    <a:ext cx="302040" cy="128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99f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-14400" y="202320"/>
                  <a:ext cx="2883600" cy="1431000"/>
                  <a:chOff x="-14400" y="202320"/>
                  <a:chExt cx="2883600" cy="143100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1680480" y="728280"/>
                    <a:ext cx="892080" cy="763920"/>
                    <a:chOff x="1680480" y="728280"/>
                    <a:chExt cx="892080" cy="76392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rot="2711400">
                      <a:off x="1657080" y="898560"/>
                      <a:ext cx="54792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rot="2711400">
                      <a:off x="2231280" y="1170000"/>
                      <a:ext cx="29376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1587240" y="599400"/>
                    <a:ext cx="1234440" cy="815400"/>
                    <a:chOff x="1587240" y="599400"/>
                    <a:chExt cx="1234440" cy="81540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rot="2103600">
                      <a:off x="1532880" y="861120"/>
                      <a:ext cx="946440" cy="11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rot="2103600">
                      <a:off x="2309760" y="1111320"/>
                      <a:ext cx="50796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1576440" y="605520"/>
                    <a:ext cx="1275120" cy="634680"/>
                    <a:chOff x="1576440" y="605520"/>
                    <a:chExt cx="1275120" cy="63468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 rot="1582800">
                      <a:off x="1550520" y="801720"/>
                      <a:ext cx="90612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rot="1582800">
                      <a:off x="2356920" y="988560"/>
                      <a:ext cx="4863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1569600" y="606960"/>
                    <a:ext cx="1299600" cy="495720"/>
                    <a:chOff x="1569600" y="606960"/>
                    <a:chExt cx="1299600" cy="495720"/>
                  </a:xfrm>
                </p:grpSpPr>
                <p:sp>
                  <p:nvSpPr>
                    <p:cNvPr id="254" name=""/>
                    <p:cNvSpPr/>
                    <p:nvPr/>
                  </p:nvSpPr>
                  <p:spPr>
                    <a:xfrm rot="1080000">
                      <a:off x="1564200" y="739440"/>
                      <a:ext cx="8751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rot="1080000">
                      <a:off x="2384640" y="866880"/>
                      <a:ext cx="4701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1579320" y="615240"/>
                    <a:ext cx="1233000" cy="290880"/>
                    <a:chOff x="1579320" y="615240"/>
                    <a:chExt cx="1233000" cy="29088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 rot="463200">
                      <a:off x="1582200" y="668880"/>
                      <a:ext cx="80604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rot="463200">
                      <a:off x="2370600" y="721800"/>
                      <a:ext cx="433080" cy="15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1594800" y="617760"/>
                    <a:ext cx="1123560" cy="118440"/>
                    <a:chOff x="1594800" y="617760"/>
                    <a:chExt cx="1123560" cy="11844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 rot="21515400">
                      <a:off x="1595520" y="628560"/>
                      <a:ext cx="7326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3760" bIns="23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rot="21515400">
                      <a:off x="2323440" y="622440"/>
                      <a:ext cx="393480" cy="10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1572480" y="472320"/>
                    <a:ext cx="987840" cy="247680"/>
                    <a:chOff x="1572480" y="472320"/>
                    <a:chExt cx="987840" cy="24768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 rot="20797200">
                      <a:off x="1571400" y="57780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rot="20797200">
                      <a:off x="2206800" y="510480"/>
                      <a:ext cx="34560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303840" y="767160"/>
                    <a:ext cx="892080" cy="763920"/>
                    <a:chOff x="303840" y="767160"/>
                    <a:chExt cx="892080" cy="76392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 flipH="1" rot="18888600">
                      <a:off x="670320" y="937440"/>
                      <a:ext cx="54792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 rot="18888600">
                      <a:off x="350640" y="1208880"/>
                      <a:ext cx="29376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32040" y="655920"/>
                    <a:ext cx="1234080" cy="815760"/>
                    <a:chOff x="32040" y="655920"/>
                    <a:chExt cx="1234080" cy="81576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flipH="1" rot="19496400">
                      <a:off x="373680" y="917640"/>
                      <a:ext cx="946440" cy="11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flipH="1" rot="19496400">
                      <a:off x="35280" y="1167480"/>
                      <a:ext cx="50832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2520" y="662040"/>
                    <a:ext cx="1275840" cy="634320"/>
                    <a:chOff x="2520" y="662040"/>
                    <a:chExt cx="1275840" cy="63432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flipH="1" rot="20017200">
                      <a:off x="397800" y="858240"/>
                      <a:ext cx="90612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H="1" rot="20017200">
                      <a:off x="10440" y="1045080"/>
                      <a:ext cx="4863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-14400" y="662760"/>
                    <a:ext cx="1299600" cy="496080"/>
                    <a:chOff x="-14400" y="662760"/>
                    <a:chExt cx="1299600" cy="49608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flipH="1" rot="20520000">
                      <a:off x="414360" y="795240"/>
                      <a:ext cx="8755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rot="20520000">
                      <a:off x="-360" y="923040"/>
                      <a:ext cx="4701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41400" y="671400"/>
                    <a:ext cx="1233720" cy="290880"/>
                    <a:chOff x="41400" y="671400"/>
                    <a:chExt cx="1233720" cy="290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flipH="1" rot="21136800">
                      <a:off x="465840" y="725040"/>
                      <a:ext cx="80604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 rot="21136800">
                      <a:off x="49680" y="778320"/>
                      <a:ext cx="433080" cy="15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135720" y="673920"/>
                    <a:ext cx="1123560" cy="118440"/>
                    <a:chOff x="135720" y="673920"/>
                    <a:chExt cx="1123560" cy="11844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flipH="1" rot="84600">
                      <a:off x="525600" y="684720"/>
                      <a:ext cx="7326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3760" bIns="23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 rot="84600">
                      <a:off x="136800" y="678600"/>
                      <a:ext cx="393480" cy="10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294480" y="528840"/>
                    <a:ext cx="986760" cy="247680"/>
                    <a:chOff x="294480" y="528840"/>
                    <a:chExt cx="986760" cy="2476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flipH="1" rot="802800">
                      <a:off x="638640" y="63432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 rot="802800">
                      <a:off x="302040" y="567000"/>
                      <a:ext cx="34524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352080" y="446400"/>
                    <a:ext cx="963360" cy="349560"/>
                    <a:chOff x="352080" y="446400"/>
                    <a:chExt cx="963360" cy="3495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flipH="1" rot="1278000">
                      <a:off x="681480" y="61272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 rot="1278000">
                      <a:off x="359280" y="505440"/>
                      <a:ext cx="34560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474120" y="328320"/>
                    <a:ext cx="887400" cy="496440"/>
                    <a:chOff x="474120" y="328320"/>
                    <a:chExt cx="887400" cy="49644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2028600">
                      <a:off x="752760" y="58284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2028600">
                      <a:off x="474120" y="415080"/>
                      <a:ext cx="34524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96520" y="216000"/>
                    <a:ext cx="801000" cy="609120"/>
                    <a:chOff x="596520" y="216000"/>
                    <a:chExt cx="801000" cy="6091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2664600">
                      <a:off x="813960" y="538200"/>
                      <a:ext cx="65268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320" bIns="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2664600">
                      <a:off x="583560" y="323280"/>
                      <a:ext cx="35064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854280" y="220320"/>
                    <a:ext cx="525960" cy="515160"/>
                    <a:chOff x="854280" y="220320"/>
                    <a:chExt cx="525960" cy="5151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3474000">
                      <a:off x="1064880" y="501480"/>
                      <a:ext cx="34956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3474000">
                      <a:off x="884880" y="258120"/>
                      <a:ext cx="18792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1021320" y="202320"/>
                    <a:ext cx="415080" cy="522360"/>
                    <a:chOff x="1021320" y="202320"/>
                    <a:chExt cx="415080" cy="5223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4126800">
                      <a:off x="1154160" y="490680"/>
                      <a:ext cx="337320" cy="11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4126800">
                      <a:off x="1045080" y="230400"/>
                      <a:ext cx="18108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1522080" y="371880"/>
                    <a:ext cx="959400" cy="358920"/>
                    <a:chOff x="1522080" y="371880"/>
                    <a:chExt cx="959400" cy="3589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20274000">
                      <a:off x="1510920" y="543960"/>
                      <a:ext cx="6433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320" bIns="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20274000">
                      <a:off x="2128320" y="432720"/>
                      <a:ext cx="34524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1469520" y="277920"/>
                    <a:ext cx="900720" cy="476280"/>
                    <a:chOff x="1469520" y="277920"/>
                    <a:chExt cx="900720" cy="47628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rot="19678800">
                      <a:off x="1438560" y="52020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rot="19678800">
                      <a:off x="2022840" y="361080"/>
                      <a:ext cx="34524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7" name=""/>
                  <p:cNvSpPr/>
                  <p:nvPr/>
                </p:nvSpPr>
                <p:spPr>
                  <a:xfrm flipH="1" rot="4578600">
                    <a:off x="1239840" y="514800"/>
                    <a:ext cx="3261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99ff"/>
                      </a:gs>
                      <a:gs pos="100000">
                        <a:srgbClr val="6699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4578600">
                    <a:off x="1203480" y="266760"/>
                    <a:ext cx="1753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3333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1431720" y="208800"/>
                    <a:ext cx="433800" cy="510840"/>
                    <a:chOff x="1431720" y="208800"/>
                    <a:chExt cx="433800" cy="51084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17742000">
                      <a:off x="1379160" y="498960"/>
                      <a:ext cx="33768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17742000">
                      <a:off x="1667520" y="247680"/>
                      <a:ext cx="1810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462680" y="222480"/>
                    <a:ext cx="675360" cy="511920"/>
                    <a:chOff x="1462680" y="222480"/>
                    <a:chExt cx="675360" cy="5119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18822600">
                      <a:off x="1456560" y="482400"/>
                      <a:ext cx="36720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18822600">
                      <a:off x="1891800" y="259200"/>
                      <a:ext cx="196920" cy="22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1441800" y="225720"/>
                    <a:ext cx="159480" cy="465840"/>
                    <a:chOff x="1441800" y="225720"/>
                    <a:chExt cx="159480" cy="46584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16696200">
                      <a:off x="1333800" y="515880"/>
                      <a:ext cx="3031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16696200">
                      <a:off x="1473120" y="275760"/>
                      <a:ext cx="16272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469080" y="785880"/>
                    <a:ext cx="771480" cy="821520"/>
                    <a:chOff x="469080" y="785880"/>
                    <a:chExt cx="771480" cy="8215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18336000">
                      <a:off x="740520" y="974520"/>
                      <a:ext cx="54792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18336000">
                      <a:off x="511560" y="1285560"/>
                      <a:ext cx="29376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756000" y="822960"/>
                    <a:ext cx="531720" cy="804240"/>
                    <a:chOff x="756000" y="822960"/>
                    <a:chExt cx="531720" cy="80424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17543400">
                      <a:off x="862560" y="1006920"/>
                      <a:ext cx="50688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17543400">
                      <a:off x="789480" y="1324800"/>
                      <a:ext cx="271800" cy="25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1045800" y="843840"/>
                    <a:ext cx="317520" cy="768240"/>
                    <a:chOff x="1045800" y="843840"/>
                    <a:chExt cx="317520" cy="7682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16870800">
                      <a:off x="1000440" y="1023120"/>
                      <a:ext cx="4863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16870800">
                      <a:off x="1053000" y="1346760"/>
                      <a:ext cx="261000" cy="23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1628640" y="772560"/>
                    <a:ext cx="799920" cy="811080"/>
                    <a:chOff x="1628640" y="772560"/>
                    <a:chExt cx="799920" cy="8110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3144000">
                      <a:off x="1586160" y="957600"/>
                      <a:ext cx="54792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3144000">
                      <a:off x="2090520" y="1261080"/>
                      <a:ext cx="29376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1585800" y="806400"/>
                    <a:ext cx="624600" cy="817560"/>
                    <a:chOff x="1585800" y="806400"/>
                    <a:chExt cx="624600" cy="81756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3745200">
                      <a:off x="1514160" y="996840"/>
                      <a:ext cx="52416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3745200">
                      <a:off x="1896120" y="1320120"/>
                      <a:ext cx="281160" cy="24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1530000" y="842760"/>
                    <a:ext cx="437760" cy="790560"/>
                    <a:chOff x="1530000" y="842760"/>
                    <a:chExt cx="437760" cy="7905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4286400">
                      <a:off x="1416960" y="1040040"/>
                      <a:ext cx="50868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4286400">
                      <a:off x="1692360" y="1370880"/>
                      <a:ext cx="27288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1476360" y="880560"/>
                    <a:ext cx="261720" cy="725400"/>
                    <a:chOff x="1476360" y="880560"/>
                    <a:chExt cx="261720" cy="72540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4898400">
                      <a:off x="1339920" y="1056960"/>
                      <a:ext cx="46764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4898400">
                      <a:off x="1494720" y="1366200"/>
                      <a:ext cx="25092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1225440" y="894240"/>
                    <a:ext cx="258120" cy="705240"/>
                    <a:chOff x="1225440" y="894240"/>
                    <a:chExt cx="258120" cy="70524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5755200">
                      <a:off x="1182600" y="1077480"/>
                      <a:ext cx="45684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5755200">
                      <a:off x="1191960" y="1392840"/>
                      <a:ext cx="244800" cy="15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2" name=""/>
              <p:cNvGrpSpPr/>
              <p:nvPr/>
            </p:nvGrpSpPr>
            <p:grpSpPr>
              <a:xfrm>
                <a:off x="38160" y="327960"/>
                <a:ext cx="2946960" cy="1873080"/>
                <a:chOff x="38160" y="327960"/>
                <a:chExt cx="2946960" cy="18730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38160" y="327960"/>
                  <a:ext cx="2946960" cy="1873080"/>
                  <a:chOff x="38160" y="327960"/>
                  <a:chExt cx="2946960" cy="1873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V="1">
                    <a:off x="1410120" y="372240"/>
                    <a:ext cx="1575000" cy="129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00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>
                    <a:off x="201600" y="737280"/>
                    <a:ext cx="1490760" cy="146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66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1401480" y="603720"/>
                    <a:ext cx="923040" cy="146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00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37800" y="486720"/>
                    <a:ext cx="1554120" cy="146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66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>
                    <a:off x="171000" y="327960"/>
                    <a:ext cx="1307880" cy="146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00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334520" y="635400"/>
                    <a:ext cx="552240" cy="146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>
                    <a:off x="938520" y="367560"/>
                    <a:ext cx="21780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66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 rot="20253000">
                  <a:off x="1711440" y="713880"/>
                  <a:ext cx="230400" cy="2660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cc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109440" y="335520"/>
              <a:ext cx="2712960" cy="1921320"/>
              <a:chOff x="109440" y="335520"/>
              <a:chExt cx="2712960" cy="192132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1008360" y="985680"/>
                <a:ext cx="253080" cy="470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49000" y="793080"/>
                <a:ext cx="2214360" cy="14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60600" y="698760"/>
                <a:ext cx="968400" cy="14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09440" y="599760"/>
                <a:ext cx="1554480" cy="14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34600" y="705960"/>
                <a:ext cx="245880" cy="14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08320" y="702360"/>
                <a:ext cx="649440" cy="14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22600" y="1065960"/>
                <a:ext cx="253080" cy="470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 rot="19660800">
                <a:off x="1328400" y="910800"/>
                <a:ext cx="230400" cy="266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254160" y="1024200"/>
                <a:ext cx="566280" cy="48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20920" y="512280"/>
                <a:ext cx="363240" cy="48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96800" y="952920"/>
                <a:ext cx="525600" cy="50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23920" y="695520"/>
                <a:ext cx="792000" cy="33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53080" y="335520"/>
                <a:ext cx="345960" cy="45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rot="1347000">
                <a:off x="887760" y="707040"/>
                <a:ext cx="230040" cy="266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Life of Christ – Part 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“Sir, We Would See Jesus”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0, Lesson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hew 25:1 – 26: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s.150-1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ree Judgment Parab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 Virgins – Matt.25:1-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: It is foolish to put off preparations for such an important occ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2: How fearful to get to the end of the way and hear Jesus say, “I never knew you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ree Judgment Parab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alents – 25:14-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d has given us charge of abilities we must use wisely and produ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“wicked” and “lazy” not to think of productive ways to use our tal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give an account of ourselves to the 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He say “Well done”?, or  “You wicked and lazy servant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ree Judgment Parab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heep and The Goats – 25:31-4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judgment a separation of two kinds of people will occ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lessed  ones are those who have spent themselves in loving service and helpfulness to God and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ursed ones had been too self-centered to notice the needs of the less fortu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ernity in heaven or hell is marked out by our own daily dec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esus Again Predicts His Crucifix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ould happen in two days at the Passover feast – Mark 14:1-2; Matt.26:1-5; Luke 22:1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ewish Sanhedrin was busy plotting how they could take Jesus and kill H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almost certainly Tuesday or Wednesday evening when Judas made his deal with the J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Much Was Jesus Worth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as strikes a bargain – Mark 14:10-11; Matt. 26:14-16; Luke 22:3-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as would lead the Jewish mob to Jesus for 30 pieces of sil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assover Prepar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showed Himself in charge of the Passover right down to where the disciples would find a man with pitcher of water to ask for a r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 14:12-16; Matt.26:17-19; Luke 22:7-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Last Supp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fe Among the Apos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would be greatest? – Mk.14:17; Matt.26:20; Lk.22:14-16; Jno.13:1-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washes their f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ness is in serving, not in being the one ser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3:52:19Z</dcterms:created>
  <dc:creator>Terry W. Benton</dc:creator>
  <dc:description/>
  <dc:language>en-US</dc:language>
  <cp:lastModifiedBy>Terry W. Benton</cp:lastModifiedBy>
  <dcterms:modified xsi:type="dcterms:W3CDTF">2006-08-21T15:03:19Z</dcterms:modified>
  <cp:revision>3</cp:revision>
  <dc:subject/>
  <dc:title>Life of Christ – Part 2  “Sir, We Would See Jesus”</dc:title>
</cp:coreProperties>
</file>